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3FDA5-953A-43D6-BA62-63B5A17EE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EEC5-75F3-4E9A-9DD7-98D25971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B61B0-448E-4377-AC96-1E1C23353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7B15B-F833-44E5-99A7-7932AC661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6FFFF-44EF-4CE0-8003-46A1530A3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FF239-BE6E-4DF7-B5E7-A3BBAEE38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F30E7-4016-471C-B63D-2FC75B0F9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204A3-F270-46B2-9691-A2B816826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6C96B-44E9-4C46-8603-E2139CADA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3F444-160A-473E-A094-E4ACDBF2A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3894-022C-4198-BC1A-CEF5A5333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FCDE1-B1F5-414B-A2E4-D17C3806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E7798-304E-4B6C-A498-30A4F37FC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902C5-9F80-4502-9B3B-DC7B76369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FE271-C773-484D-B655-21D253660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6FE6D-E3C7-408D-8624-BBE88D2FD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C1962-4541-48A7-B2E7-E4A50747C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49D6-9D99-49CF-A196-583DB0EB1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E742F-D7DC-4135-A434-F81A7F4F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E741-176D-478B-9AB7-183E30B1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9AE8-8A1B-4426-816A-A5CAEF78B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0EC7-DD68-44FF-9EC9-A6F53C28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928B-9F09-415C-A446-011ED1BA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31E0-41EC-4125-A5AD-72C5D4634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3131-B640-4514-AB7A-948900615CC9}"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631F-19B7-49D2-8652-E0AAA32387FE}"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1" name=""/>
          <p:cNvSpPr/>
          <p:nvPr/>
        </p:nvSpPr>
        <p:spPr>
          <a:xfrm>
            <a:off x="609480" y="1447920"/>
            <a:ext cx="8001000" cy="53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FPIA Workshop: Best Practices to minimize the occurrence of drug in biological samples from control animals</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Brussels</a:t>
            </a:r>
            <a:br>
              <a:rPr sz="3600"/>
            </a:br>
            <a:r>
              <a:rPr b="0" lang="en-US" sz="3600" spc="-1" strike="noStrike">
                <a:solidFill>
                  <a:srgbClr val="ccecff"/>
                </a:solidFill>
                <a:latin typeface="Arial"/>
              </a:rPr>
              <a:t>October 13th 2003</a:t>
            </a:r>
            <a:br>
              <a:rPr sz="3600"/>
            </a:br>
            <a:br>
              <a:rPr sz="3600"/>
            </a:b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a:t>
            </a:r>
            <a:r>
              <a:rPr b="1" lang="en-GB" sz="2800" spc="-1" strike="noStrike">
                <a:solidFill>
                  <a:srgbClr val="ccecff"/>
                </a:solidFill>
                <a:latin typeface="Arial"/>
              </a:rPr>
              <a:t>Protective clothing and personnel hygiene procedures</a:t>
            </a:r>
            <a:r>
              <a:rPr b="1" lang="en-GB" sz="3600" spc="-1" strike="noStrike">
                <a:solidFill>
                  <a:srgbClr val="ccecff"/>
                </a:solidFill>
                <a:latin typeface="Arial"/>
              </a:rPr>
              <a:t> </a:t>
            </a:r>
            <a:endParaRPr b="0" lang="en-US" sz="3600" spc="-1" strike="noStrike">
              <a:solidFill>
                <a:srgbClr val="ccecff"/>
              </a:solidFill>
              <a:latin typeface="Arial"/>
            </a:endParaRPr>
          </a:p>
        </p:txBody>
      </p:sp>
      <p:sp>
        <p:nvSpPr>
          <p:cNvPr id="229" name=""/>
          <p:cNvSpPr/>
          <p:nvPr/>
        </p:nvSpPr>
        <p:spPr>
          <a:xfrm>
            <a:off x="455760" y="1598760"/>
            <a:ext cx="8226360" cy="4896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ion lab</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est materials handled in containment cabinet</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Formulations prepared and handled in ascending order </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nimal rooms</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rocedures in ascending order or change gloves and aprons between groups</a:t>
            </a:r>
            <a:endParaRPr b="0" lang="en-US" sz="1800" spc="-1" strike="noStrike">
              <a:solidFill>
                <a:srgbClr val="eaeaea"/>
              </a:solidFill>
              <a:latin typeface="Arial"/>
            </a:endParaRPr>
          </a:p>
          <a:p>
            <a:pPr lvl="3" marL="1600200" indent="-228600">
              <a:spcBef>
                <a:spcPts val="4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ange gloves if any evidence of contamination</a:t>
            </a:r>
            <a:endParaRPr b="0" lang="en-US" sz="16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ross reference procedures for radiolabelled work</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Equipment, room cleaning and monitoring procedures</a:t>
            </a:r>
            <a:endParaRPr b="0" lang="en-US" sz="2800" spc="-1" strike="noStrike">
              <a:solidFill>
                <a:srgbClr val="ccecff"/>
              </a:solidFill>
              <a:latin typeface="Arial"/>
            </a:endParaRPr>
          </a:p>
        </p:txBody>
      </p:sp>
      <p:sp>
        <p:nvSpPr>
          <p:cNvPr id="231" name=""/>
          <p:cNvSpPr/>
          <p:nvPr/>
        </p:nvSpPr>
        <p:spPr>
          <a:xfrm>
            <a:off x="455760" y="1447920"/>
            <a:ext cx="8226360" cy="27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 </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leaning requirements should be determined based on consideration of physicochemical/other properties of the test compoun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Effectiveness of cleaning procedures evaluated if reasons for concern</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Eg. previous experience, physicochemical properties</a:t>
            </a:r>
            <a:endParaRPr b="0" lang="en-US" sz="1800" spc="-1" strike="noStrike">
              <a:solidFill>
                <a:srgbClr val="eaeaea"/>
              </a:solidFill>
              <a:latin typeface="Arial"/>
            </a:endParaRPr>
          </a:p>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Equipment, room cleaning and monitoring procedure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Equipment for making formulations and within animal room</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How is cleanliness verified?</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wab before each new formulation/study</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Validate cleaning process against series of molecular classes?</a:t>
            </a:r>
            <a:endParaRPr b="0" lang="en-US" sz="1800" spc="-1" strike="noStrike">
              <a:solidFill>
                <a:srgbClr val="eaeaea"/>
              </a:solidFill>
              <a:latin typeface="Arial"/>
            </a:endParaRPr>
          </a:p>
          <a:p>
            <a:pPr lvl="3" marL="1600200" indent="-228600">
              <a:spcBef>
                <a:spcPts val="4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Some compounds may be more resistant, or assay LOQ may be very low</a:t>
            </a:r>
            <a:endParaRPr b="0" lang="en-US" sz="16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leaning of workstation, balances, stirrers etc</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ame as above or different?</a:t>
            </a:r>
            <a:endParaRPr b="0" lang="en-US" sz="18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formation required to assess cleaning requirements should be supplied with test material</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Housing of animals (distribution of cages on racks, location of controls etc)</a:t>
            </a:r>
            <a:br>
              <a:rPr sz="2800"/>
            </a:br>
            <a:endParaRPr b="0" lang="en-US" sz="2800" spc="-1" strike="noStrike">
              <a:solidFill>
                <a:srgbClr val="ccecff"/>
              </a:solidFill>
              <a:latin typeface="Arial"/>
            </a:endParaRPr>
          </a:p>
        </p:txBody>
      </p:sp>
      <p:sp>
        <p:nvSpPr>
          <p:cNvPr id="235" name=""/>
          <p:cNvSpPr/>
          <p:nvPr/>
        </p:nvSpPr>
        <p:spPr>
          <a:xfrm>
            <a:off x="455760" y="1371600"/>
            <a:ext cx="8226360" cy="573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eparate racks for control and test animals preferable; if on same rack</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Block distribution, with gap between groups (for rodents)</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 some studies (eg. inhalation, diet) may prefer a control  in separate room</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of enrichment items – cleaning, storage</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Group-specific and disposable</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How are large animals exercised – controls separate, treatment groups together (by sex)</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nticipate risk of spread of contamination by urine/faeces </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fluence regulatory view on controls in separate room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hare with regulators practical difficulties in large animal studies</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72520"/>
            <a:ext cx="8991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Identification of dose formulations</a:t>
            </a:r>
            <a:endParaRPr b="0" lang="en-US" sz="2800" spc="-1" strike="noStrike">
              <a:solidFill>
                <a:srgbClr val="ccecff"/>
              </a:solidFill>
              <a:latin typeface="Arial"/>
            </a:endParaRPr>
          </a:p>
        </p:txBody>
      </p:sp>
      <p:sp>
        <p:nvSpPr>
          <p:cNvPr id="237" name=""/>
          <p:cNvSpPr/>
          <p:nvPr/>
        </p:nvSpPr>
        <p:spPr>
          <a:xfrm>
            <a:off x="455760" y="1598760"/>
            <a:ext cx="8226360" cy="497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of appropriate cross checking</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Eg. appearance, label, colour coding (labels, stirrers), cross check of dose pot weight, bar code </a:t>
            </a:r>
            <a:endParaRPr b="0" lang="en-US" sz="18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272520"/>
            <a:ext cx="8915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Dose formulation accountability procedures</a:t>
            </a:r>
            <a:br>
              <a:rPr sz="2800"/>
            </a:br>
            <a:endParaRPr b="0" lang="en-US" sz="2800" spc="-1" strike="noStrike">
              <a:solidFill>
                <a:srgbClr val="ccecff"/>
              </a:solidFill>
              <a:latin typeface="Arial"/>
            </a:endParaRPr>
          </a:p>
        </p:txBody>
      </p:sp>
      <p:sp>
        <p:nvSpPr>
          <p:cNvPr id="239" name=""/>
          <p:cNvSpPr/>
          <p:nvPr/>
        </p:nvSpPr>
        <p:spPr>
          <a:xfrm>
            <a:off x="455760" y="1598760"/>
            <a:ext cx="8226360" cy="501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heck use of formulation against theoretical requirement, eg. weigh each container before and after dosing (SG correction if necessary)</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Unexplained discrepancy of &gt;10% triggers investigation</a:t>
            </a:r>
            <a:endParaRPr b="0" lang="en-US" sz="1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In-life:  Sampling of biofluids (equipment, gloves, workstations, storage of samples etc)</a:t>
            </a:r>
            <a:endParaRPr b="0" lang="en-US" sz="2800" spc="-1" strike="noStrike">
              <a:solidFill>
                <a:srgbClr val="ccecff"/>
              </a:solidFill>
              <a:latin typeface="Arial"/>
            </a:endParaRPr>
          </a:p>
        </p:txBody>
      </p:sp>
      <p:sp>
        <p:nvSpPr>
          <p:cNvPr id="241" name=""/>
          <p:cNvSpPr/>
          <p:nvPr/>
        </p:nvSpPr>
        <p:spPr>
          <a:xfrm>
            <a:off x="455760" y="1598760"/>
            <a:ext cx="8226360" cy="554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ple tubes and paperwork prepared in separate, clean environment</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ple tubes in sealed bags, by dose group; supply and open sampling equipment only as need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areful consideration of sample site according to route of administration (eg. no orbital sinus bleeding in inhalation studies, clean rat tails for tail bleed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possible, sample in (clean) area separate from animal hold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possible controls sampled in separate area from treated animals; if not, controls sampled first, then ascending group order</a:t>
            </a:r>
            <a:endParaRPr b="0" lang="en-US" sz="2000" spc="-1" strike="noStrike">
              <a:solidFill>
                <a:srgbClr val="eaeaea"/>
              </a:solidFill>
              <a:latin typeface="Arial"/>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In-life:  Sampling of biofluids (equipment, gloves, workstations, storage of samples etc) 2</a:t>
            </a:r>
            <a:endParaRPr b="0" lang="en-US" sz="2800" spc="-1" strike="noStrike">
              <a:solidFill>
                <a:srgbClr val="ccecff"/>
              </a:solidFill>
              <a:latin typeface="Arial"/>
            </a:endParaRPr>
          </a:p>
        </p:txBody>
      </p:sp>
      <p:sp>
        <p:nvSpPr>
          <p:cNvPr id="2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edicated bleeders, handlers etc</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edicated equipment for control and treated animals (eg. anaesthesia, warming cabinets, centrifuges etc)</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f not working in ascending order, or if visible contamination, change gloves, aprons between groups</a:t>
            </a:r>
            <a:endParaRPr b="0" lang="en-US" sz="2000" spc="-1" strike="noStrike">
              <a:solidFill>
                <a:srgbClr val="eaeaea"/>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 </a:t>
            </a:r>
            <a:endParaRPr b="0" lang="en-US" sz="2000" spc="-1" strike="noStrike">
              <a:solidFill>
                <a:srgbClr val="eaeaea"/>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72520"/>
            <a:ext cx="85341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Necropsy: Sampling of biofluids/tissues (equipment, gloves, workstations, storage of samples etc)</a:t>
            </a:r>
            <a:endParaRPr b="0" lang="en-US" sz="2800" spc="-1" strike="noStrike">
              <a:solidFill>
                <a:srgbClr val="ccecff"/>
              </a:solidFill>
              <a:latin typeface="Arial"/>
            </a:endParaRPr>
          </a:p>
        </p:txBody>
      </p:sp>
      <p:sp>
        <p:nvSpPr>
          <p:cNvPr id="245" name=""/>
          <p:cNvSpPr/>
          <p:nvPr/>
        </p:nvSpPr>
        <p:spPr>
          <a:xfrm>
            <a:off x="455760" y="1598760"/>
            <a:ext cx="8226360" cy="476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TK samples taken at necropsy (mice, non-rodents), dedicated bleeder and controls first, dedicated equipment per group (necropsy equipment, cryobaths for tissue, homogenisers)</a:t>
            </a:r>
            <a:endParaRPr b="0" lang="en-US" sz="2000" spc="-1" strike="noStrike">
              <a:solidFill>
                <a:srgbClr val="eaeaea"/>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47" name=""/>
          <p:cNvSpPr/>
          <p:nvPr/>
        </p:nvSpPr>
        <p:spPr>
          <a:xfrm>
            <a:off x="455760" y="1371600"/>
            <a:ext cx="8226360" cy="461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oth the bioanalytics and toxicology working groups addressed the issue of toxicokinetic sampling times and frequency and analysis of control samples.  The following consensus was reached in plenary: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primary purpose of toxicokinetic data is to demonstrate exposure in treated animals rather than providing a quality control mechanism to demonstrate absence of exposure, which would  have additional statistical implication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ther procedures are in place to ensure absence of exposure of control animals and these best practice recommendations are intended to improve these procedures to minimise as far as possible the potential for detecting drug in samples from control animal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Best Practices to minimize the occurrence of drug in biological samples from control animals</a:t>
            </a:r>
            <a:endParaRPr b="0" lang="en-US" sz="2800" spc="-1" strike="noStrike">
              <a:solidFill>
                <a:srgbClr val="ccecff"/>
              </a:solidFill>
              <a:latin typeface="Arial"/>
            </a:endParaRPr>
          </a:p>
        </p:txBody>
      </p:sp>
      <p:sp>
        <p:nvSpPr>
          <p:cNvPr id="213" name=""/>
          <p:cNvSpPr/>
          <p:nvPr/>
        </p:nvSpPr>
        <p:spPr>
          <a:xfrm>
            <a:off x="455760" y="1598760"/>
            <a:ext cx="8226360" cy="579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2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5000"/>
          </a:bodyPr>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9 organisations represented</a:t>
            </a:r>
            <a:endParaRPr b="0" lang="en-US" sz="32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 CROs</a:t>
            </a:r>
            <a:endParaRPr b="0" lang="en-US" sz="28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harmaceutical companies</a:t>
            </a:r>
            <a:endParaRPr b="0" lang="en-US" sz="28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ior toxicologist and bioanalyst representatives from each organisation</a:t>
            </a:r>
            <a:endParaRPr b="0" lang="en-US" sz="32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pertise on GLP aspects of issue</a:t>
            </a:r>
            <a:endParaRPr b="0" lang="en-US" sz="32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y – Kirk Huber</a:t>
            </a:r>
            <a:endParaRPr b="0" lang="en-US" sz="28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gulatory – Jurg Seiler (ToxiConSeil, ex Swissmedic)</a:t>
            </a:r>
            <a:endParaRPr b="0" lang="en-US" sz="2800" spc="-1" strike="noStrike">
              <a:solidFill>
                <a:srgbClr val="eaeaea"/>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49" name=""/>
          <p:cNvSpPr/>
          <p:nvPr/>
        </p:nvSpPr>
        <p:spPr>
          <a:xfrm>
            <a:off x="455760" y="1371600"/>
            <a:ext cx="8226360" cy="367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ilst recognising that the primary purpose of toxicokinetic data is to demonstrate exposure in treated animals, the workshop participants agreed that for pivotal studies in rodents/rabbits, at least 3 samples in a 24 hour period (t</a:t>
            </a:r>
            <a:r>
              <a:rPr b="0" lang="en-US" sz="2000" spc="-1" strike="noStrike" baseline="-25000">
                <a:solidFill>
                  <a:srgbClr val="eaeaea"/>
                </a:solidFill>
                <a:latin typeface="Arial"/>
              </a:rPr>
              <a:t>max</a:t>
            </a:r>
            <a:r>
              <a:rPr b="0" lang="en-US" sz="2000" spc="-1" strike="noStrike">
                <a:solidFill>
                  <a:srgbClr val="eaeaea"/>
                </a:solidFill>
                <a:latin typeface="Arial"/>
              </a:rPr>
              <a:t>, t</a:t>
            </a:r>
            <a:r>
              <a:rPr b="0" lang="en-US" sz="2000" spc="-1" strike="noStrike" baseline="-25000">
                <a:solidFill>
                  <a:srgbClr val="eaeaea"/>
                </a:solidFill>
                <a:latin typeface="Arial"/>
              </a:rPr>
              <a:t>24h</a:t>
            </a:r>
            <a:r>
              <a:rPr b="0" lang="en-US" sz="2000" spc="-1" strike="noStrike">
                <a:solidFill>
                  <a:srgbClr val="eaeaea"/>
                </a:solidFill>
                <a:latin typeface="Arial"/>
              </a:rPr>
              <a:t> and one other timepoint) will be analysed from satellite animals.  Control samples will be collected from control dogs with the same frequency as for treated dogs, and at least 3 control samples will be analysed for drug levels.  It would be a company decision to do more than this proposed minimum if they so wished. </a:t>
            </a:r>
            <a:endParaRPr b="0" lang="en-US" sz="2000" spc="-1" strike="noStrike">
              <a:solidFill>
                <a:srgbClr val="eaeaea"/>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2856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analytics breakout session feedback</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456840"/>
            <a:ext cx="8226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Dose Formulations: Sampling methods (gloves, equipment etc.)</a:t>
            </a:r>
            <a:endParaRPr b="0" lang="en-US" sz="2800" spc="-1" strike="noStrike">
              <a:solidFill>
                <a:srgbClr val="ccecff"/>
              </a:solidFill>
              <a:latin typeface="Arial"/>
            </a:endParaRPr>
          </a:p>
        </p:txBody>
      </p:sp>
      <p:sp>
        <p:nvSpPr>
          <p:cNvPr id="252" name=""/>
          <p:cNvSpPr/>
          <p:nvPr/>
        </p:nvSpPr>
        <p:spPr>
          <a:xfrm>
            <a:off x="457200" y="2057400"/>
            <a:ext cx="8226360" cy="394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 Vehicle should be analysed, same day/week as TK Bleed</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 diet sampled from jar in animal room (checks air-born contamination) FDA recommendation</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Dose Formulations: Methods, assays and sequence of analysis</a:t>
            </a:r>
            <a:endParaRPr b="0" lang="en-US" sz="2800" spc="-1" strike="noStrike">
              <a:solidFill>
                <a:srgbClr val="ccecff"/>
              </a:solidFill>
              <a:latin typeface="Arial"/>
            </a:endParaRPr>
          </a:p>
        </p:txBody>
      </p:sp>
      <p:sp>
        <p:nvSpPr>
          <p:cNvPr id="254" name=""/>
          <p:cNvSpPr/>
          <p:nvPr/>
        </p:nvSpPr>
        <p:spPr>
          <a:xfrm>
            <a:off x="455760" y="1598760"/>
            <a:ext cx="8226360" cy="340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ll samples handled the same way with validated methods</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Labelling and shipping</a:t>
            </a:r>
            <a:br>
              <a:rPr sz="2800"/>
            </a:br>
            <a:endParaRPr b="0" lang="en-US" sz="2800" spc="-1" strike="noStrike">
              <a:solidFill>
                <a:srgbClr val="ccecff"/>
              </a:solidFill>
              <a:latin typeface="Arial"/>
            </a:endParaRPr>
          </a:p>
        </p:txBody>
      </p:sp>
      <p:sp>
        <p:nvSpPr>
          <p:cNvPr id="256" name=""/>
          <p:cNvSpPr/>
          <p:nvPr/>
        </p:nvSpPr>
        <p:spPr>
          <a:xfrm>
            <a:off x="455760" y="1598760"/>
            <a:ext cx="8226360" cy="517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ll samples (including controls) should be stored and shipped in conditions that minimise potential contamination and deterioration during transit (e.g tubes frozen in upright position, not overfilled).  </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Samples bagged/separated by dose-group.</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Use of labels that withstand storage and remain legible to avoid  mis-identification. </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dequate and clear paperwork with dosing/sampling times</a:t>
            </a:r>
            <a:endParaRPr b="0" lang="en-US" sz="2000" spc="-1" strike="noStrike">
              <a:solidFill>
                <a:srgbClr val="eaeaea"/>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Methods/equipment and sequence of analysis</a:t>
            </a:r>
            <a:endParaRPr b="0" lang="en-US" sz="2800" spc="-1" strike="noStrike">
              <a:solidFill>
                <a:srgbClr val="ccecff"/>
              </a:solidFill>
              <a:latin typeface="Arial"/>
            </a:endParaRPr>
          </a:p>
        </p:txBody>
      </p:sp>
      <p:sp>
        <p:nvSpPr>
          <p:cNvPr id="258" name=""/>
          <p:cNvSpPr/>
          <p:nvPr/>
        </p:nvSpPr>
        <p:spPr>
          <a:xfrm>
            <a:off x="304920" y="1371600"/>
            <a:ext cx="8610480" cy="618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ethod validation should quantify and minimise carry-over issues/check selectivity in the same matrix as the study sample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Sample analysis should also include sufficient number of blanks to check for analytical contamination (in line with FDA Bioanalytical Guidanc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cceptable to analyse samples in ascending dose-group (bioanalysts have access to randomisation).</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Follow clean analytical work practise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same instrumentation/process for analysing controls and dosed samples - this was inconclusiv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What is an acceptable limit for carry-over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ust always request enough sample volume for at least 2 analys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Assay performance / LOQ</a:t>
            </a:r>
            <a:endParaRPr b="0" lang="en-US" sz="2800" spc="-1" strike="noStrike">
              <a:solidFill>
                <a:srgbClr val="ccecff"/>
              </a:solidFill>
              <a:latin typeface="Arial"/>
            </a:endParaRPr>
          </a:p>
        </p:txBody>
      </p:sp>
      <p:sp>
        <p:nvSpPr>
          <p:cNvPr id="260" name=""/>
          <p:cNvSpPr/>
          <p:nvPr/>
        </p:nvSpPr>
        <p:spPr>
          <a:xfrm>
            <a:off x="455760" y="1598760"/>
            <a:ext cx="8226360" cy="550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ethods should be validated (3-run including specificity) before Regulatory TK studies</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LLOQ should be set by dose-level and sample volume available (to assess exposure at NOEL, if technically possible)</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Need to define exposure at NOEL (may not always be able to do this with I/h or potent drug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Use dose-range finder study to set LLQ/range.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Definitive method available for first regulatory TK study </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6761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dditional recommendation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porting: Discussion of issue and study validity in study report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3" name=""/>
          <p:cNvSpPr/>
          <p:nvPr/>
        </p:nvSpPr>
        <p:spPr>
          <a:xfrm>
            <a:off x="228600" y="1598760"/>
            <a:ext cx="8763120" cy="57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ata related to detection of drug in samples from control group should be presented in the TK report</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TK report should address the levels of drug in samples from controls relative to the LLOQ and to the levels in treated animals  </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drug is detected in samples from control group animals (above LLOQ) , this should be discussed in the text of main study report. Comment whether values near LLOQ, or well above</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 </a:t>
            </a:r>
            <a:r>
              <a:rPr b="1" lang="en-GB" sz="2000" spc="-1" strike="noStrike">
                <a:solidFill>
                  <a:srgbClr val="eaeaea"/>
                </a:solidFill>
                <a:latin typeface="Arial"/>
              </a:rPr>
              <a:t>Include statement of possible cause of contamination, if data indicates, no speculation. Cross refer to any on-going investigation </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 report Conclusion/Discussion: Impact on study integrity and validity of interpretation addressed, even when there is no negative impact</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ssessment of GLP compliance of study when drug detected in control samples</a:t>
            </a:r>
            <a:endParaRPr b="0" lang="en-US" sz="2800" spc="-1" strike="noStrike">
              <a:solidFill>
                <a:srgbClr val="ccecff"/>
              </a:solidFill>
              <a:latin typeface="Arial"/>
            </a:endParaRPr>
          </a:p>
        </p:txBody>
      </p:sp>
      <p:sp>
        <p:nvSpPr>
          <p:cNvPr id="265" name=""/>
          <p:cNvSpPr/>
          <p:nvPr/>
        </p:nvSpPr>
        <p:spPr>
          <a:xfrm>
            <a:off x="304920" y="1447920"/>
            <a:ext cx="8686800" cy="502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tatement of GLP compliance does not have to be qualified when drug is detected in samples from control group animals</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he detection of drug in samples from control group animals must be mentioned in final report, in order to be in compliance with FDA GLPs that require the final report lists ‘all circumstances that may have affected the quality or integrity of the data’</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If the presence of drug in samples from control group animals is determined to be the result of a mis-dosing, a protocol deviation should be noted. </a:t>
            </a:r>
            <a:endParaRPr b="0" lang="en-US" sz="1800" spc="-1" strike="noStrike">
              <a:solidFill>
                <a:srgbClr val="eaeaea"/>
              </a:solidFill>
              <a:latin typeface="Arial"/>
            </a:endParaRPr>
          </a:p>
          <a:p>
            <a:pPr marL="343080" indent="-343080">
              <a:spcBef>
                <a:spcPts val="601"/>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QA is responsible to assure that the report “accurately and completely reflects the raw data”, so they must assure that the detection of drug in samples from control group animals is reflected in the report</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raining of study personnel in measures/procedures to minimise contamination should be document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amme</a:t>
            </a:r>
            <a:endParaRPr b="0" lang="en-US" sz="4400" spc="-1" strike="noStrike">
              <a:solidFill>
                <a:srgbClr val="ccecff"/>
              </a:solidFill>
              <a:latin typeface="Arial"/>
            </a:endParaRPr>
          </a:p>
        </p:txBody>
      </p:sp>
      <p:sp>
        <p:nvSpPr>
          <p:cNvPr id="216" name=""/>
          <p:cNvSpPr/>
          <p:nvPr/>
        </p:nvSpPr>
        <p:spPr>
          <a:xfrm>
            <a:off x="533520" y="990720"/>
            <a:ext cx="8226360" cy="568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roductio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ase studies, Dr Chris Powell, GSK</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 this a GLP issue? Dr Jurg Seiler</a:t>
            </a:r>
            <a:endParaRPr b="0" lang="en-US" sz="24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Two Breakout group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Toxicology procedures (including dispensar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Analytics (formulation and bio-specimens)</a:t>
            </a:r>
            <a:endParaRPr b="0" lang="en-US" sz="20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Facilitator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Chris Powell (Toxicolog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Kirk Huber (Analytics)</a:t>
            </a:r>
            <a:endParaRPr b="0" lang="en-US" sz="20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Rapporteur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 </a:t>
            </a:r>
            <a:r>
              <a:rPr b="1" lang="en-US" sz="2000" spc="-1" strike="noStrike">
                <a:solidFill>
                  <a:srgbClr val="eaeaea"/>
                </a:solidFill>
                <a:latin typeface="Univers"/>
              </a:rPr>
              <a:t>Tim Gray (Toxicolog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 </a:t>
            </a:r>
            <a:r>
              <a:rPr b="1" lang="en-US" sz="2000" spc="-1" strike="noStrike">
                <a:solidFill>
                  <a:srgbClr val="eaeaea"/>
                </a:solidFill>
                <a:latin typeface="Univers"/>
              </a:rPr>
              <a:t>Susie Fowles (Analytic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lenary feedback from breakouts and next ste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llow-up measures when drug detected in control samples</a:t>
            </a:r>
            <a:endParaRPr b="0" lang="en-US" sz="2800" spc="-1" strike="noStrike">
              <a:solidFill>
                <a:srgbClr val="ccecff"/>
              </a:solidFill>
              <a:latin typeface="Arial"/>
            </a:endParaRPr>
          </a:p>
        </p:txBody>
      </p:sp>
      <p:sp>
        <p:nvSpPr>
          <p:cNvPr id="267" name=""/>
          <p:cNvSpPr/>
          <p:nvPr/>
        </p:nvSpPr>
        <p:spPr>
          <a:xfrm>
            <a:off x="304920" y="1447920"/>
            <a:ext cx="8377200" cy="454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OP should be in place which describes process when drug is measured in a control sample</a:t>
            </a:r>
            <a:r>
              <a:rPr b="1" lang="en-GB" sz="2000" spc="-1" strike="noStrike">
                <a:solidFill>
                  <a:srgbClr val="eaeaea"/>
                </a:solidFill>
                <a:latin typeface="Arial"/>
              </a:rPr>
              <a:t> </a:t>
            </a:r>
            <a:endParaRPr b="0" lang="en-US" sz="20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Re-analyse when sample volume permits, following internal procedures and FDA guidance</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eck that analytical blanks  (&amp; plasma from unrelated control animals) are clean from contamination</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eck tube labelling and data/documentation provided with the samples</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Inform the study director as soon as positive result is confirmed [FDA GLPs require that the study director assure “unforeseen circumstances that may affect the quality and integrity of the nonclinical laboratory study are noted when they occur…” ]</a:t>
            </a:r>
            <a:endParaRPr b="0" lang="en-US" sz="16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Assay for presence/absence of metabolites may aid in determining source of contamina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ssessment of validity of studies for human risk assessment</a:t>
            </a:r>
            <a:endParaRPr b="0" lang="en-US" sz="2800" spc="-1" strike="noStrike">
              <a:solidFill>
                <a:srgbClr val="ccecff"/>
              </a:solidFill>
              <a:latin typeface="Arial"/>
            </a:endParaRPr>
          </a:p>
        </p:txBody>
      </p:sp>
      <p:sp>
        <p:nvSpPr>
          <p:cNvPr id="269" name=""/>
          <p:cNvSpPr/>
          <p:nvPr/>
        </p:nvSpPr>
        <p:spPr>
          <a:xfrm>
            <a:off x="455760" y="1598760"/>
            <a:ext cx="8226360" cy="43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Industry have recommended best practices to reduce the risk of detecting drug in control samples, but it is not a realistic expectation that it will be possible to eliminate  this occurrenc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Industry experience indicates that it is often not possible to identify the source, and/or fully correct the cause of drug in controls during the conduct of a study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refore a scientific weight of evidence approach is needed to evaluate the validity of the study data in assessing risk to human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up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72" name=""/>
          <p:cNvSpPr/>
          <p:nvPr/>
        </p:nvSpPr>
        <p:spPr>
          <a:xfrm>
            <a:off x="455760" y="1371600"/>
            <a:ext cx="8226360" cy="585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 – Tox breakout</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ll pivotal toxicology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sider including earlier studies for “early warn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 (rat) repro studies, can extrapolate from existing data, assuming no change in procedure and no concern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e sample points as for treated animals, analyse t</a:t>
            </a:r>
            <a:r>
              <a:rPr b="1" lang="en-GB" sz="2000" spc="-1" strike="noStrike" baseline="-25000">
                <a:solidFill>
                  <a:srgbClr val="eaeaea"/>
                </a:solidFill>
                <a:latin typeface="Arial"/>
              </a:rPr>
              <a:t>max</a:t>
            </a:r>
            <a:r>
              <a:rPr b="1" lang="en-GB" sz="2000" spc="-1" strike="noStrike">
                <a:solidFill>
                  <a:srgbClr val="eaeaea"/>
                </a:solidFill>
                <a:latin typeface="Arial"/>
              </a:rPr>
              <a:t>, analyse other time points only if contamination detect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f no contamination, consider more limited control analysis at subsequent time points/further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Not necessary to sample control animals on same day as treated animal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There may be other ways to monitor controls, using fewer animals</a:t>
            </a:r>
            <a:endParaRPr b="0" lang="en-US" sz="2000" spc="-1" strike="noStrike">
              <a:solidFill>
                <a:srgbClr val="eaeaea"/>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74" name=""/>
          <p:cNvSpPr/>
          <p:nvPr/>
        </p:nvSpPr>
        <p:spPr>
          <a:xfrm>
            <a:off x="455760" y="1371600"/>
            <a:ext cx="8226360" cy="396720"/>
          </a:xfrm>
          <a:prstGeom prst="rect">
            <a:avLst/>
          </a:prstGeom>
          <a:noFill/>
          <a:ln w="0">
            <a:noFill/>
          </a:ln>
        </p:spPr>
        <p:style>
          <a:lnRef idx="0"/>
          <a:fillRef idx="0"/>
          <a:effectRef idx="0"/>
          <a:fontRef idx="minor"/>
        </p:style>
        <p:txBody>
          <a:bodyPr lIns="90000" rIns="90000" tIns="46800" bIns="46800" anchor="t">
            <a:spAutoFit/>
          </a:bodyPr>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5" name=""/>
          <p:cNvSpPr/>
          <p:nvPr/>
        </p:nvSpPr>
        <p:spPr>
          <a:xfrm>
            <a:off x="455760" y="272880"/>
            <a:ext cx="8226360" cy="10224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eaeaea"/>
              </a:solidFill>
              <a:latin typeface="Arial"/>
            </a:endParaRPr>
          </a:p>
        </p:txBody>
      </p:sp>
      <p:sp>
        <p:nvSpPr>
          <p:cNvPr id="276" name="PlaceHolder 2"/>
          <p:cNvSpPr>
            <a:spLocks noGrp="1"/>
          </p:cNvSpPr>
          <p:nvPr>
            <p:ph/>
          </p:nvPr>
        </p:nvSpPr>
        <p:spPr>
          <a:xfrm>
            <a:off x="152280" y="1295280"/>
            <a:ext cx="8686800" cy="4724640"/>
          </a:xfrm>
          <a:prstGeom prst="rect">
            <a:avLst/>
          </a:prstGeom>
          <a:noFill/>
          <a:ln w="0">
            <a:noFill/>
          </a:ln>
        </p:spPr>
        <p:txBody>
          <a:bodyPr lIns="90000" rIns="90000" tIns="46800" bIns="46800" anchor="t">
            <a:normAutofit fontScale="88000"/>
          </a:bodyPr>
          <a:p>
            <a:pPr marL="301680" indent="-3016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nsensus recommendation – Bionalytics breakout</a:t>
            </a:r>
            <a:endParaRPr b="0" lang="en-US" sz="28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Collect control samples (same times as dosed animals) for all pivotal studies, specifically carc (rodents) and pivotal repro (at least).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For some types of cpds/dosing regimens (I/halation), consider bleeding control gp on a different day.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K bleeds same day/week as Dose Concentration Analysis (vehicle control)</a:t>
            </a:r>
            <a:endParaRPr b="0" lang="en-US" sz="1600" spc="-1" strike="noStrike">
              <a:solidFill>
                <a:srgbClr val="eaeaea"/>
              </a:solidFill>
              <a:latin typeface="Arial"/>
            </a:endParaRPr>
          </a:p>
          <a:p>
            <a:pPr marL="301680" indent="-3016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mments</a:t>
            </a:r>
            <a:r>
              <a:rPr b="0" lang="en-GB" sz="3200" spc="-1" strike="noStrike">
                <a:solidFill>
                  <a:srgbClr val="ffff00"/>
                </a:solidFill>
                <a:latin typeface="Arial"/>
              </a:rPr>
              <a:t> </a:t>
            </a:r>
            <a:endParaRPr b="0" lang="en-US" sz="32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collect same timepoints as dosed animals (satellites if appropriate), analyse </a:t>
            </a:r>
            <a:r>
              <a:rPr b="1" lang="en-GB" sz="1600" spc="-1" strike="noStrike">
                <a:solidFill>
                  <a:srgbClr val="eaeaea"/>
                </a:solidFill>
                <a:latin typeface="Arial"/>
              </a:rPr>
              <a:t>Cmax only or all control samples</a:t>
            </a:r>
            <a:r>
              <a:rPr b="0" lang="en-GB" sz="1600" spc="-1" strike="noStrike">
                <a:solidFill>
                  <a:srgbClr val="eaeaea"/>
                </a:solidFill>
                <a:latin typeface="Arial"/>
              </a:rPr>
              <a:t>. Still common (especially CRO studies), for control samples to be taken but not analysed (sponsor decides)</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Sampling times set in discussion with bioanalytical gp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nalysis of controls from early studies may help develop methodolgies/id problems for later studies.</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Lack of histo does not mean analysis unnecessary</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Sampling frequency - to look or not ? How many times through a study - can be re-assuring.</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50:50 on taking a predose (zero hr) from dosed animals - depends on blood volume. For, adds confidence, Against use of animals/cost-benefit analysis.</a:t>
            </a:r>
            <a:endParaRPr b="0" lang="en-US" sz="1600" spc="-1" strike="noStrike">
              <a:solidFill>
                <a:srgbClr val="eaeaea"/>
              </a:solidFill>
              <a:latin typeface="Arial"/>
            </a:endParaRPr>
          </a:p>
          <a:p>
            <a:pPr lvl="1" marL="653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llow-up measures when drug detected in control samples</a:t>
            </a:r>
            <a:endParaRPr b="0" lang="en-US" sz="2800" spc="-1" strike="noStrike">
              <a:solidFill>
                <a:srgbClr val="ccecff"/>
              </a:solidFill>
              <a:latin typeface="Arial"/>
            </a:endParaRPr>
          </a:p>
        </p:txBody>
      </p:sp>
      <p:sp>
        <p:nvSpPr>
          <p:cNvPr id="278" name=""/>
          <p:cNvSpPr/>
          <p:nvPr/>
        </p:nvSpPr>
        <p:spPr>
          <a:xfrm>
            <a:off x="455760" y="1598760"/>
            <a:ext cx="8226360" cy="483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 – bioanalyytics breakout</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Positive controls re-analysed according to pre-defined criteria (FDA Guidance drive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heck analytical blanks are clean for carry-over/other contaminatio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heck tube labelling and raw data documentatio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ommunicate to Toxicology Study Director as soon as confirmed</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ay investigate potential metabolites (investigation with Tox)</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xt steps</a:t>
            </a:r>
            <a:endParaRPr b="0" lang="en-US" sz="4400" spc="-1" strike="noStrike">
              <a:solidFill>
                <a:srgbClr val="ccecff"/>
              </a:solidFill>
              <a:latin typeface="Arial"/>
            </a:endParaRPr>
          </a:p>
        </p:txBody>
      </p:sp>
      <p:sp>
        <p:nvSpPr>
          <p:cNvPr id="218" name=""/>
          <p:cNvSpPr/>
          <p:nvPr/>
        </p:nvSpPr>
        <p:spPr>
          <a:xfrm>
            <a:off x="533520" y="990720"/>
            <a:ext cx="8226360" cy="3185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eedback from CPMP SWP, February 2004</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ssion at DIA Euro Meeting in Prague, March 2004</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ublication in DIA journal</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Regulatory persepctiv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e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LP asepct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Workshop consensus reccomendation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2856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xicology breakout session feedback</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Test material receipt, identification and storage</a:t>
            </a:r>
            <a:endParaRPr b="0" lang="en-US" sz="2800" spc="-1" strike="noStrike">
              <a:solidFill>
                <a:srgbClr val="ccecff"/>
              </a:solidFill>
              <a:latin typeface="Arial"/>
            </a:endParaRPr>
          </a:p>
        </p:txBody>
      </p:sp>
      <p:sp>
        <p:nvSpPr>
          <p:cNvPr id="221" name="PlaceHolder 2"/>
          <p:cNvSpPr>
            <a:spLocks noGrp="1"/>
          </p:cNvSpPr>
          <p:nvPr>
            <p:ph/>
          </p:nvPr>
        </p:nvSpPr>
        <p:spPr>
          <a:xfrm>
            <a:off x="456840" y="1447920"/>
            <a:ext cx="8226360" cy="449712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nsensus recommendation</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Rigid container desirable; verify integrity of container; use double containment</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Weigh to start accountability</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Check C of A – adequacy, correspondence with label</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Label must provide unequivocal identification</a:t>
            </a:r>
            <a:endParaRPr b="0" lang="en-US" sz="18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Eg. bar coding</a:t>
            </a:r>
            <a:endParaRPr b="0" lang="en-US" sz="16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Both containers</a:t>
            </a:r>
            <a:endParaRPr b="0" lang="en-US" sz="16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tore according to stability information</a:t>
            </a:r>
            <a:r>
              <a:rPr b="1" lang="en-GB" sz="1800" spc="-1" strike="noStrike">
                <a:solidFill>
                  <a:srgbClr val="eaeaea"/>
                </a:solidFill>
                <a:latin typeface="Arial"/>
              </a:rPr>
              <a:t>	</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eparation of control and test materials</a:t>
            </a:r>
            <a:endParaRPr b="0" lang="en-US" sz="18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At least separate cupboard</a:t>
            </a:r>
            <a:endParaRPr b="0" lang="en-US" sz="1600" spc="-1" strike="noStrike">
              <a:solidFill>
                <a:srgbClr val="eaeaea"/>
              </a:solidFill>
              <a:latin typeface="Arial"/>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urther action needed to reach consensus</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hipping practice (and adequate identification documentation)</a:t>
            </a:r>
            <a:endParaRPr b="0" lang="en-US" sz="1800" spc="-1" strike="noStrike">
              <a:solidFill>
                <a:srgbClr val="eaeaea"/>
              </a:solidFill>
              <a:latin typeface="Arial"/>
            </a:endParaRPr>
          </a:p>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mments</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revious experience with this and related compounds</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hysicochemical properties</a:t>
            </a:r>
            <a:endParaRPr b="0" lang="en-US" sz="1800" spc="-1" strike="noStrike">
              <a:solidFill>
                <a:srgbClr val="eaeaea"/>
              </a:solidFill>
              <a:latin typeface="Arial"/>
            </a:endParaRPr>
          </a:p>
          <a:p>
            <a:pPr marL="294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a:t>
            </a:r>
            <a:r>
              <a:rPr b="1" lang="en-GB" sz="2800" spc="-1" strike="noStrike">
                <a:solidFill>
                  <a:srgbClr val="ccecff"/>
                </a:solidFill>
                <a:latin typeface="Arial"/>
              </a:rPr>
              <a:t>Dose formulation procedures, identification, transport to animal room</a:t>
            </a:r>
            <a:endParaRPr b="0" lang="en-US" sz="2800" spc="-1" strike="noStrike">
              <a:solidFill>
                <a:srgbClr val="ccecff"/>
              </a:solidFill>
              <a:latin typeface="Arial"/>
            </a:endParaRPr>
          </a:p>
        </p:txBody>
      </p:sp>
      <p:sp>
        <p:nvSpPr>
          <p:cNvPr id="223" name=""/>
          <p:cNvSpPr/>
          <p:nvPr/>
        </p:nvSpPr>
        <p:spPr>
          <a:xfrm>
            <a:off x="457200" y="1371600"/>
            <a:ext cx="8226360" cy="5168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e control/vehicle in separate area (assumes proper cleaning procedures are in plac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e control/vehicle at separate time of day, control before test material</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eparate container of vehicle for dilution and for dos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Prepare formulations in ascending dose order</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ample for analysis (TK days)</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ispense formulations into unequivocally labelled container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dedicated, sealable container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a:t>
            </a:r>
            <a:r>
              <a:rPr b="1" lang="en-GB" sz="2800" spc="-1" strike="noStrike">
                <a:solidFill>
                  <a:srgbClr val="ccecff"/>
                </a:solidFill>
                <a:latin typeface="Arial"/>
              </a:rPr>
              <a:t>Dose formulation accountability procedures</a:t>
            </a:r>
            <a:endParaRPr b="0" lang="en-US" sz="2800" spc="-1" strike="noStrike">
              <a:solidFill>
                <a:srgbClr val="ccecff"/>
              </a:solidFill>
              <a:latin typeface="Arial"/>
            </a:endParaRPr>
          </a:p>
        </p:txBody>
      </p:sp>
      <p:sp>
        <p:nvSpPr>
          <p:cNvPr id="225" name=""/>
          <p:cNvSpPr/>
          <p:nvPr/>
        </p:nvSpPr>
        <p:spPr>
          <a:xfrm>
            <a:off x="455760" y="1598760"/>
            <a:ext cx="8226360" cy="556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test material containers weighed before and after contents removed for formulation</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Reconciled with theoretical weight requir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Balance records retained with study records</a:t>
            </a:r>
            <a:endParaRPr b="0" lang="en-US" sz="2000" spc="-1" strike="noStrike">
              <a:solidFill>
                <a:srgbClr val="eaeaea"/>
              </a:solidFill>
              <a:latin typeface="Arial"/>
            </a:endParaRPr>
          </a:p>
          <a:p>
            <a:pPr lvl="1" marL="743040" indent="-28584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re there situations where this does not make practical sense (eg. multiple vials of pre-weighed material)</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a:t>
            </a:r>
            <a:r>
              <a:rPr b="1" lang="en-GB" sz="2800" spc="-1" strike="noStrike">
                <a:solidFill>
                  <a:srgbClr val="ccecff"/>
                </a:solidFill>
                <a:latin typeface="Arial"/>
              </a:rPr>
              <a:t>Dedicated equipment (e.g.glassware/vessels) for study and group</a:t>
            </a:r>
            <a:br>
              <a:rPr sz="3200"/>
            </a:br>
            <a:endParaRPr b="0" lang="en-US" sz="2800" spc="-1" strike="noStrike">
              <a:solidFill>
                <a:srgbClr val="ccecff"/>
              </a:solidFill>
              <a:latin typeface="Arial"/>
            </a:endParaRPr>
          </a:p>
        </p:txBody>
      </p:sp>
      <p:sp>
        <p:nvSpPr>
          <p:cNvPr id="227" name=""/>
          <p:cNvSpPr/>
          <p:nvPr/>
        </p:nvSpPr>
        <p:spPr>
          <a:xfrm>
            <a:off x="455760" y="1598760"/>
            <a:ext cx="8226360" cy="505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ver practical, separate equipment for controls and dose group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ose pots should be study and dose group-specific then discarded</a:t>
            </a: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mpact of trace contamination of glassware etc probably very low in terms of control animal exposure</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0:33:23Z</dcterms:created>
  <dc:creator>SIMSJE1</dc:creator>
  <dc:description/>
  <dc:language>en-US</dc:language>
  <cp:lastModifiedBy>SIMSJE1</cp:lastModifiedBy>
  <dcterms:modified xsi:type="dcterms:W3CDTF">2004-01-22T17:31:39Z</dcterms:modified>
  <cp:revision>22</cp:revision>
  <dc:subject/>
  <dc:title>Dispensary: Test material receipt and ident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